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A0A2-A289-4192-8786-895E457DD7E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A639-AE66-4833-B567-4331771F0C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CE28-C620-41A4-AD18-8B4221D2C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3A5B-E723-42F2-80F3-424E8B753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5237-BEFB-46C0-B827-C97884CAF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C28E-2D34-4882-9578-A3BD1AB8E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C2C7-5AD7-4CC5-AE40-588D96C7B3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9037-9D40-4811-9499-0B650B911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76BD-16EC-4F74-8028-AB7D9BFFB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0C0C-DC9C-4073-A7F0-464C4D411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E145-2859-4A7C-A304-DB33DFCAE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7814-62FF-477E-8D29-F8800F204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AC8D-2950-4B47-B613-8D89E8087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87B2-E8C3-4266-8CF6-7A236DAAD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AD23-951B-484E-92B4-1CF182295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2F1A-186A-4201-B592-84ED98E80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816E-EFF3-44D5-84D8-F7C6DC4BC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5F54-CF33-4FA6-96BE-F37D03361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E0CF-2F56-4F38-A033-BE6A567038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79E1-6280-449D-A881-5580A83B1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DFE3-3E79-4B5F-A404-8F84B1F84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B619-EDEB-4F5D-BF2D-48F52DE8A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2A31-E84F-4753-8273-174183AAFC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8F7E-7DC8-4F3D-BC16-879BE70D5B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E043-5B26-41AF-9997-F54CD54712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2631-9044-42A4-A6A7-423C7BBE0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0C1B-E9B0-4464-A163-ACC692FF7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9310-E12F-4073-9C23-0EB45BD93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B4FA-8A4C-49F8-92E6-7DBEFBFBB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6B6-B0CA-498C-B243-FEFA190B1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A098-1346-49A2-A3C7-D76E80198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26D4-57C2-41D2-871E-A58B30971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4A9F-2A44-4D66-9C66-2E4947D63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0E89-EEC5-4EE2-992F-940C8D56C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960A-B649-41E3-9CF6-665C51F0B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F020-634E-4F12-9983-EE3086ACF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F514-79AA-4396-BD2F-231979B40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0FB1-9068-49CC-8852-59D46EE8A0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8ABC-C85A-442C-9714-EFBE1126C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8571-702C-44B2-BB23-D6F9972926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8D47-833F-4FC0-BCA1-00490D6CE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744E-2436-4925-A935-0109C4987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73D-282A-4238-A827-956B4A03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2BD-670C-4C26-A069-E8A7F6E7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A2B-7F08-4A97-A411-0439D6D7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CA5-3B37-40AF-A30E-1E7D5AE8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BA4F-E3DC-47C8-B742-D2E067BD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2ECB-236B-4BF2-8F72-DCEE3111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0CCE-7A9F-45A6-81E4-38EA2666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CBCE-E4C8-415E-B0FA-BC7A181D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3531-D19B-4E36-8581-77B934C0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90F2-29AD-4B8A-9D93-03D06589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5EFE-7F19-41E7-A4AD-60F96E17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911-F612-4B2B-9C95-04B1E17A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83B9-CF6A-4D1F-98BE-020F325E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6364-7B3A-47EA-843C-A44E4C8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C950-A9F8-493B-A20E-2A41632F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769A-7317-479F-B4C9-31530C6C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DF92-9D77-4590-B993-76CB4F1D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94E-AD60-4B27-8BB3-3A73344B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931-94D6-41D8-9222-64709D4C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D95-ACEE-4406-BDC6-C20D2A6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954-5679-4601-A31B-3D9CE38F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562-241F-4CF8-B454-D5FD500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A94-12C4-4293-9D62-784C8029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018-BD94-417A-842F-3446BB77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D3BF-C33C-4F93-BE5C-9DE5E5F9F7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7641-882F-4130-82EA-C5C5BCA3D40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8424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ódulo 7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egración en el proceso presupuestario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43700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el cambio climático a nivel nacional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Condiciones básicas para influir en el presupuesto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4920" y="2276280"/>
            <a:ext cx="853452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tender el proceso de asignación presupuestaria y encontrar los puntos de entrada apropia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ordinar con procesos de políticas relaciona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licación de actores que determinan el presupues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ilización de la sociedad civi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ordinación con los donan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otencial bajo el Apoyo Presupuestario General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moción de financiación adecuada para organismos sectoriales y subnacion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1A94-77AA-40DF-9692-F024522D10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l medio ambiente y el cambio climático en la fase de asignación de recurs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8920" y="1413000"/>
            <a:ext cx="87361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La integración del medio ambiente/cambio climático exige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asignar financiación a los sectores y las regiones más vulnerables o prioritari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ortar financiación para adoptar medidas ambient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ortar financiación para planes o actividades específicos de adaptación y/o mitig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ñadir consideraciones ambientales y climáticas a los criterios para examinar y seleccionar proyectos e inversion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jar hueco para actividades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sectoriale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por ejemplo, RR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Este proceso suele implicar una combinación de procesos descendentes y ascendent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427640" y="6165720"/>
            <a:ext cx="34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OCDE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02F0-8803-490B-854C-4F8B8C64A5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ases clave en la elaboración presupuestaria y puntos de entrada relacionados (1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752480"/>
          <a:ext cx="8534520" cy="485316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clav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ores clav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Determinación del enfoque macroeconómic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/Planificación, oficina estadística, banco centr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Planificación estratégica plurianual: estrategia fiscal a medio plazo, marco de gastos a medio plaz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, Min. de Finanz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Determinación de los siguientes elementos para el año siguiente: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resos previst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aceptable de défici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global de gast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 (departamento de presupuestos, departamento macroeconómico), gobiern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Asignación previa de gastos entre los ministerios competentes, de acuerdo con las prioridades polític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, Min. de Finanzas (departamento de presupuesto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FBA2-1648-44FD-AC0F-6894AB7BDB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6"/>
          <p:cNvSpPr/>
          <p:nvPr/>
        </p:nvSpPr>
        <p:spPr>
          <a:xfrm>
            <a:off x="609480" y="914400"/>
            <a:ext cx="2590920" cy="1066680"/>
          </a:xfrm>
          <a:prstGeom prst="wedgeRoundRectCallout">
            <a:avLst>
              <a:gd name="adj1" fmla="val -10592"/>
              <a:gd name="adj2" fmla="val 87814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mpactos del cambio climático sobre el crecimiento y la actividad económica; valor de los servicios ecosistémic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7"/>
          <p:cNvSpPr/>
          <p:nvPr/>
        </p:nvSpPr>
        <p:spPr>
          <a:xfrm>
            <a:off x="4572000" y="692280"/>
            <a:ext cx="2971800" cy="1226880"/>
          </a:xfrm>
          <a:prstGeom prst="wedgeRoundRectCallout">
            <a:avLst>
              <a:gd name="adj1" fmla="val -66379"/>
              <a:gd name="adj2" fmla="val 89027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mpactos de la mejora del estado de la adaptación/mitigación del medio ambiente y del cambio climático sobre el crecimiento y la actividad económic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ounded Rectangular Callout 8"/>
          <p:cNvSpPr/>
          <p:nvPr/>
        </p:nvSpPr>
        <p:spPr>
          <a:xfrm>
            <a:off x="5257800" y="3124080"/>
            <a:ext cx="2819520" cy="457200"/>
          </a:xfrm>
          <a:prstGeom prst="wedgeRoundRectCallout">
            <a:avLst>
              <a:gd name="adj1" fmla="val -79578"/>
              <a:gd name="adj2" fmla="val 136231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Costes adicionales de medid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Rounded Rectangular Callout 9"/>
          <p:cNvSpPr/>
          <p:nvPr/>
        </p:nvSpPr>
        <p:spPr>
          <a:xfrm>
            <a:off x="6732720" y="3716280"/>
            <a:ext cx="2133360" cy="792360"/>
          </a:xfrm>
          <a:prstGeom prst="wedgeRoundRectCallout">
            <a:avLst>
              <a:gd name="adj1" fmla="val -159490"/>
              <a:gd name="adj2" fmla="val -9314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Recursos adicionales requeridos/comprometid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Rounded Rectangular Callout 10"/>
          <p:cNvSpPr/>
          <p:nvPr/>
        </p:nvSpPr>
        <p:spPr>
          <a:xfrm>
            <a:off x="5435640" y="4653000"/>
            <a:ext cx="2743200" cy="609480"/>
          </a:xfrm>
          <a:prstGeom prst="wedgeRoundRectCallout">
            <a:avLst>
              <a:gd name="adj1" fmla="val -83254"/>
              <a:gd name="adj2" fmla="val -134050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Ingresos/ahorros de costes adicional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Right Brace 11"/>
          <p:cNvSpPr/>
          <p:nvPr/>
        </p:nvSpPr>
        <p:spPr>
          <a:xfrm>
            <a:off x="4284720" y="2781360"/>
            <a:ext cx="142920" cy="2303280"/>
          </a:xfrm>
          <a:custGeom>
            <a:avLst/>
            <a:gdLst>
              <a:gd name="textAreaLeft" fmla="*/ 0 w 142920"/>
              <a:gd name="textAreaRight" fmla="*/ 51480 w 142920"/>
              <a:gd name="textAreaTop" fmla="*/ 3600 h 2303280"/>
              <a:gd name="textAreaBottom" fmla="*/ 229968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Rounded Rectangular Callout 12"/>
          <p:cNvSpPr/>
          <p:nvPr/>
        </p:nvSpPr>
        <p:spPr>
          <a:xfrm>
            <a:off x="5219640" y="5445000"/>
            <a:ext cx="3071880" cy="1067040"/>
          </a:xfrm>
          <a:prstGeom prst="wedgeRoundRectCallout">
            <a:avLst>
              <a:gd name="adj1" fmla="val -92444"/>
              <a:gd name="adj2" fmla="val -9370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Reasignación de fondos para apoyar los objetivos de adaptación/mitig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Rounded Rectangular Callout 13"/>
          <p:cNvSpPr/>
          <p:nvPr/>
        </p:nvSpPr>
        <p:spPr>
          <a:xfrm>
            <a:off x="324000" y="3068640"/>
            <a:ext cx="1676160" cy="762120"/>
          </a:xfrm>
          <a:prstGeom prst="wedgeRoundRectCallout">
            <a:avLst>
              <a:gd name="adj1" fmla="val -2736"/>
              <a:gd name="adj2" fmla="val -106625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Contabilidad verd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ases clave en la elaboración presupuestaria y puntos de entrada relacionados (2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25360"/>
          <a:ext cx="8534160" cy="558324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clav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ores clav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Preparación/distribución de techos de gastos y circulares presupuestari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 (departamento de presupuesto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Costes de políticas sectoriales, presentación de ofert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dos los ministerios y organismos gubernament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Revisión de ofertas sectoriales, pruebas de estimaciones de gastos, finalización de estimaciones de presupuest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 (departamento de presupuestos), Gobiern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Negociaciones, seguidas de la aceptación del presupuest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, otros ministerios/agencias, gobiern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 Elaboración del proyecto legislativo de asignación de recursos y de documentos presupuestari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 (departamento de presupuesto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 Presentación de presupuesto al Parlamento – Debate y adop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, Parlament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71" name="Slide Number Placeholder 4"/>
          <p:cNvSpPr/>
          <p:nvPr/>
        </p:nvSpPr>
        <p:spPr>
          <a:xfrm>
            <a:off x="6553080" y="5958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299-0F1C-4C1E-A167-8897A7F049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Rounded Rectangular Callout 5"/>
          <p:cNvSpPr/>
          <p:nvPr/>
        </p:nvSpPr>
        <p:spPr>
          <a:xfrm>
            <a:off x="4859280" y="1125360"/>
            <a:ext cx="3657600" cy="1028880"/>
          </a:xfrm>
          <a:prstGeom prst="wedgeRoundRectCallout">
            <a:avLst>
              <a:gd name="adj1" fmla="val -93412"/>
              <a:gd name="adj2" fmla="val 30819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nstrucciones relativas a las políticas y medidas (adaptación/mitigación) de gastos relativos a medio ambiente y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Rounded Rectangular Callout 6"/>
          <p:cNvSpPr/>
          <p:nvPr/>
        </p:nvSpPr>
        <p:spPr>
          <a:xfrm>
            <a:off x="4716360" y="2349360"/>
            <a:ext cx="4267440" cy="676440"/>
          </a:xfrm>
          <a:prstGeom prst="wedgeRoundRectCallout">
            <a:avLst>
              <a:gd name="adj1" fmla="val -81898"/>
              <a:gd name="adj2" fmla="val 14666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Costes e integración de políticas y medidas relativas al medio ambiente y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ular Callout 7"/>
          <p:cNvSpPr/>
          <p:nvPr/>
        </p:nvSpPr>
        <p:spPr>
          <a:xfrm>
            <a:off x="5508720" y="4005360"/>
            <a:ext cx="2514600" cy="1133280"/>
          </a:xfrm>
          <a:prstGeom prst="wedgeRoundRectCallout">
            <a:avLst>
              <a:gd name="adj1" fmla="val -112893"/>
              <a:gd name="adj2" fmla="val 4412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Uso de procedimientos de examen de riesgos medioambientales y climátic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ular Callout 8"/>
          <p:cNvSpPr/>
          <p:nvPr/>
        </p:nvSpPr>
        <p:spPr>
          <a:xfrm>
            <a:off x="4572000" y="3213000"/>
            <a:ext cx="4038480" cy="676440"/>
          </a:xfrm>
          <a:prstGeom prst="wedgeRoundRectCallout">
            <a:avLst>
              <a:gd name="adj1" fmla="val -69611"/>
              <a:gd name="adj2" fmla="val -20810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Establecimiento de las prioridades de medidas y políticas relativas al medio ambiente y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Rounded Rectangular Callout 9"/>
          <p:cNvSpPr/>
          <p:nvPr/>
        </p:nvSpPr>
        <p:spPr>
          <a:xfrm>
            <a:off x="4788000" y="5950080"/>
            <a:ext cx="3962160" cy="677880"/>
          </a:xfrm>
          <a:prstGeom prst="wedgeRoundRectCallout">
            <a:avLst>
              <a:gd name="adj1" fmla="val -70773"/>
              <a:gd name="adj2" fmla="val 3425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Debate de las medidas y políticas relativas al medio ambiente y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eguimiento de los gastos relativos al medio ambiente y al clim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412640"/>
            <a:ext cx="864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urante la elaboración, la implementación, el monitoreo y la presentación de informes en relación con los presupuestos,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alizar un seguimiento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de los principales gastos relativos al medio ambiente y al clim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daptar la clasificación presupuestaria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eñalar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los gastos suplementarios relativos al medio ambiente y al clima integrados en programas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o medioambientales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y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o climáticos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sto es importante para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onitorear la implementación de medidas medioambientales y climáticas en estrategias nacionales y sectoriales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formar a la CMNUCC (comunicaciones nacionales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segurar la elegibilidad para la financiación con fondos ambeintales y de mitigación/adaptación al cambio climátic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3A57-07D9-47E7-9887-1608E4F791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Monitoreo de la financiación en relación con el medio ambiente y el clima: marcadores medioambientales y climático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242064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ódigos estadísticos desarrollados por la OCDE </a:t>
            </a:r>
            <a:br>
              <a:rPr sz="2000"/>
            </a:b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DCD) para monitorear la cantidad de recursos de asistencia destinados al medio ambiente y a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odría adaptarse para la aplicación a los presupuestos naciona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r ejemplo, Kenia está presentando un Sistema Electrónico de Monitoreo de Proyectos (e-PROMIS) para captar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formación más exhaustiva y organizada sobre proyectos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que facilitará la identificación de la financiación relativa al cambio climátic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7D78-2326-431B-88B3-35ED3D86DD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042920" y="6237360"/>
            <a:ext cx="75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s: OCDE-DCD (2011); Norrington-Davies and Thornton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24000" y="2060640"/>
            <a:ext cx="8534160" cy="304776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ones del Gasto Público (RGP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ones del Gasto Público Ambiental (RGPA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ón Institucional y del Gasto Público Climático (RIGP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4ACE-3587-4120-B54E-08CF6AA0E1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visiones del Gasto Público (RGP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2060280"/>
            <a:ext cx="8497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na herramienta para analizar cómo se planifican, asignan y gastan en realidad los recursos presupuestarios en relación a distintas prioridades y objetiv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s RGP pueden utilizarse como una herramienta para apoyar la integración de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eguimiento de los gastos relativos a la adaptación y mitigació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o obstante, también es importante centrarse en la contribución global del gasto público en los resultados de desarrollo resiliente al clima y de bajas emision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 relación con el gasto ambiental, puede adoptar la forma de una Revisión del Gasto Público Ambiental (RGPA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91FE-1182-45B9-82F0-B17889559A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visiones del Gasto Público Ambiental (RGP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560" y="155700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pectos comunes abordado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Niveles y tendencias en el gasto ambienta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Desagregación del gasto ambiental por tipo de actividad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Distribución de gastos ambientales en relación con el establecimiento de prioridades medioambiental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Eficiencia y eficacia de gastos ambiental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Capacidad gubernamental para la ejecución del presupuesto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Descentralización fisca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Sostenibilidad del presupuesto medioambienta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Ratios: gastos de capital/corrientes y gastos salariales/no salarial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Vínculos entre las fuentes de financiación y los gastos ambientales, y potencial para aumentar los ingreso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Capacidad institucional para la gestión y planificación medioambienta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54FF-64D9-45FD-A7E7-C9AF6EA210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4427640" y="620640"/>
            <a:ext cx="4716360" cy="838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Una forma de evaluación sistemática de la equidad, eficiencia y eficacia del gasto público ambiental. (Markandya </a:t>
            </a:r>
            <a:r>
              <a:rPr b="0" i="1" lang="en-GB" sz="1400" spc="-1" strike="noStrike">
                <a:solidFill>
                  <a:srgbClr val="002060"/>
                </a:solidFill>
                <a:latin typeface="Verdana"/>
              </a:rPr>
              <a:t>et al</a:t>
            </a: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, 2006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3733920" y="655020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(Markandya </a:t>
            </a:r>
            <a:r>
              <a:rPr b="0" i="1" lang="en-GB" sz="1400" spc="-1" strike="noStrike">
                <a:solidFill>
                  <a:srgbClr val="0f5494"/>
                </a:solidFill>
                <a:latin typeface="Verdana"/>
              </a:rPr>
              <a:t>et al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, 2006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Rwanda PEER 2013.jpg"/>
          <p:cNvPicPr/>
          <p:nvPr/>
        </p:nvPicPr>
        <p:blipFill>
          <a:blip r:embed="rId1"/>
          <a:stretch/>
        </p:blipFill>
        <p:spPr>
          <a:xfrm>
            <a:off x="6438960" y="-27000"/>
            <a:ext cx="2741400" cy="3645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jemplo de RGPA: Rwand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1200" y="2420640"/>
            <a:ext cx="8291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GPA de 2009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e identificaron pocos gastos ambient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e recomendó una mayor asignación de recursos del MINECOFIN para el sector de RNM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ón del Gasto Público de 2013 para Medio Ambiente y Cambio Climático 2008-2012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sde 2004, el gasto relativo al medio ambiente y al cambio climático pasó del 0,4% al 2,5%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l MINECOFIN volvió a introducir un anexo sobre el medio ambiente y el cambio climático en la Circular Nacional de Convocatoria de Presupues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1920"/>
            <a:ext cx="8534160" cy="22100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Implicaciones de políticas y medidas relativas al medio ambiente y al clima para ingresos y gastos público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D9AC-D69F-45B0-B1AF-CE3D303F22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visión Institucional y del Gasto Público Climático (RIGPC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1483920"/>
            <a:ext cx="624852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Herramienta del PNUD que actualmente se está probando en los países de la región de Asia y el Pacífic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ón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ómo se reflejaron los objetivos de la política nacional de cambio climático en los gastos público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ómo podrían ajustarse las instituciones para garantizar que la financiación de una respuesta al cambio climático se ofrecza de forma coherente por parte de las diferentes instituciones de gobierno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740720" y="6245280"/>
            <a:ext cx="946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A9B9-8AF9-4A86-BC84-1B4AD17E7F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0" name="Picture 6" descr="CPEIR Nepal cover.png"/>
          <p:cNvPicPr/>
          <p:nvPr/>
        </p:nvPicPr>
        <p:blipFill>
          <a:blip r:embed="rId1"/>
          <a:stretch/>
        </p:blipFill>
        <p:spPr>
          <a:xfrm>
            <a:off x="6629400" y="1295280"/>
            <a:ext cx="2197080" cy="2667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Thailand CPEIR cover.png"/>
          <p:cNvPicPr/>
          <p:nvPr/>
        </p:nvPicPr>
        <p:blipFill>
          <a:blip r:embed="rId2"/>
          <a:stretch/>
        </p:blipFill>
        <p:spPr>
          <a:xfrm>
            <a:off x="6372360" y="4187880"/>
            <a:ext cx="18856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Puntos de entrada para la integración de aspectos relativos al clima en una RG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1265400"/>
          <a:ext cx="8534160" cy="5187960"/>
        </p:xfrm>
        <a:graphic>
          <a:graphicData uri="http://schemas.openxmlformats.org/drawingml/2006/table">
            <a:tbl>
              <a:tblPr/>
              <a:tblGrid>
                <a:gridCol w="1871640"/>
                <a:gridCol w="66625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estiones a tener en cuent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planificación presupuestar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de las consideraciones climáticas en las decisiones de asigna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2"/>
                    </a:solidFill>
                  </a:tcPr>
                </a:tc>
              </a:tr>
              <a:tr h="208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as y categorías de gast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real en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signaciones a: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medidas favorables a la adaptación y mitigación 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programas de desarrollo que se centran en la gestión de riesgos climáticos, el desarrollo resiliente al clima/de bajas emision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 de financiación recurrente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versión de capital para la gestión y el monitoreo del riesgo climátic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18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ción presupuestar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y tendencias en las asignaciones a sectores y organismos relacionados con el clim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en de dichas asignaciones (financiación interna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terna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aumentar los recursos para un desarrollo resiliente al clim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2"/>
                    </a:solidFill>
                  </a:tcPr>
                </a:tc>
              </a:tr>
            </a:tbl>
          </a:graphicData>
        </a:graphic>
      </p:graphicFrame>
      <p:sp>
        <p:nvSpPr>
          <p:cNvPr id="2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9DE6-B9C5-4B17-BD08-0E5EAD306E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564000" y="6381720"/>
            <a:ext cx="55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s: UNDP-UNEP (2011), Banco Mundial (n.d.) GN4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as herramientas de sensibilización como complement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2565360"/>
            <a:ext cx="85345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as conclusiones de las revisiones del gasto público (RGP, RGPA, RIGPC) pueden complementarse con herramientas de 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nsibilización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que informen sobre el procedimiento presupuestario, com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álisis económic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strategia de comunicación y promoción y plan de trabaj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3184-7EA3-45CD-ABA9-777C610DAC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ntabilidad medioambiental y sobre las limitaciones del PIB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492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dores disponib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.ej., ahorro neto ajustado, indicadores de desarrollo sostenible, indicadores de crecimiento verde, índice de desarrollo human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1" name="Picture 6" descr="beyond gdp.jpg"/>
          <p:cNvPicPr/>
          <p:nvPr/>
        </p:nvPicPr>
        <p:blipFill>
          <a:blip r:embed="rId1"/>
          <a:stretch/>
        </p:blipFill>
        <p:spPr>
          <a:xfrm>
            <a:off x="1692360" y="3933720"/>
            <a:ext cx="5413320" cy="2590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5076720" y="6381720"/>
            <a:ext cx="409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http://ec.europa.eu/environment/beyond_gdp/indicators_en.htm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istema de Contabilidad Ambiental y Económica Integrada (SCAEI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2276640"/>
            <a:ext cx="8362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rco central del SCAEI - norma internacional de UNSC (2012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gistra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lujos de materia prima del medio ambiente a la economí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cambios de estos materiales dentro de la economí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gresos de residuos y contaminantes al medio ambien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AVES (Contabilidad de la Riqueza y Valoración de Servicios Ecosistémico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sociación global auspiciada por el Banco Mundial para integrar la contabilidad de capital natural en el sistema de contabilidad nacional y la planificación del desarroll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asar a la ac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060280"/>
            <a:ext cx="815328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tegrar el medio ambiente y el cambio climático en el proceso presupuestari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Uso de Revisiones de Gasto Público (RGP), Revisiones de Gasto Público Ambiental (RGPA) y Revisiones Institucionales y de Gasto Público Climático (RIGP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EABC-C2CE-4E9C-8C49-5B567B433C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Rounded Rectangle 4"/>
          <p:cNvSpPr/>
          <p:nvPr/>
        </p:nvSpPr>
        <p:spPr>
          <a:xfrm>
            <a:off x="1908000" y="4724280"/>
            <a:ext cx="5410440" cy="180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¿Qué puede hacerse y cuáles son las necesidades institucionales y de capacidades en su organización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4000" y="2349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Recursos externos para la financiación relativa al medio ambiente y  al cambio climátic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2133720" y="44593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incipales fuentes: </a:t>
            </a:r>
            <a:r>
              <a:rPr b="0" lang="en-GB" sz="1600" spc="-1" strike="noStrike">
                <a:solidFill>
                  <a:srgbClr val="c00000"/>
                </a:solidFill>
                <a:latin typeface="Verdana"/>
              </a:rPr>
              <a:t>www.climatefundsupdate.org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, UNDP-UNEP (2011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453-550E-4E4F-B369-1D7F563F30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rincipales fuentes de financiación externa para el cambio climático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D549-2A39-4F05-B9D0-E59F6A7EF9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341360"/>
          <a:ext cx="9144000" cy="5999400"/>
        </p:xfrm>
        <a:graphic>
          <a:graphicData uri="http://schemas.openxmlformats.org/drawingml/2006/table">
            <a:tbl>
              <a:tblPr/>
              <a:tblGrid>
                <a:gridCol w="4102200"/>
                <a:gridCol w="5041800"/>
              </a:tblGrid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o de programas de cooper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ptación y mitigación centradas en el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ara los Países Menos Adelantado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 e implementación de NAP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Especial para el Cambio Climático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ptación (objetivo prioritario), transferencias de tecnologías, mitigación en sectores de alto potenci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Ámbito de interés relacionado con el cambio climático del Fondo Fiduciario del FMAM (GEF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mitigación, proyectos de demostración de adaptación y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s de apoyo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de Adapt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y programas que reducen la vulnerabilidad de las comunidades y sectores con respecto al cambio climátic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Verde para el Clima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operaciones aún por comenzar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l para la financiación multilateral futura de la adaptación y mitig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de Tecnologías Limpia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stración, despliegue y transferencia de tecnologías de bajas emisione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Estratégico sobre Clima (FEC) - Programa piloto para la resiliencia climática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de la resiliencia y el riesgo climáticos en la planificación de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rincipales fuentes de financiación externa para el cambio climático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3BB2-E307-4C9A-8718-2EC45C85B6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9640" y="1413000"/>
          <a:ext cx="8153640" cy="4841640"/>
        </p:xfrm>
        <a:graphic>
          <a:graphicData uri="http://schemas.openxmlformats.org/drawingml/2006/table">
            <a:tbl>
              <a:tblPr/>
              <a:tblGrid>
                <a:gridCol w="3657600"/>
                <a:gridCol w="4496040"/>
              </a:tblGrid>
              <a:tr h="39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F- Programa de inversión forestal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D- Actividades relacionadas, gestión forestal sostenible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F - Programa de promoción de las energías renovables en países de renta baja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liegue de fuentes de energía renova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amiento rápido (Fast Start Finance) (acabado en 2012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s de adaptación y mitigación en países en vías de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D+ (diversas corrientes de financiación, incl. UN-REDD, que promueve la integración de estrategias REDD en el desarrollo nacional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, implementación piloto y despliegue de estrategias nacionales para reducir las emisiones producidas por la deforestación/degradación forest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rototipo de Carbono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foques pioneros para la mitigación que contribuyen al desarrollo sosten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del BioCarbo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captación de carbono en bosques y agroecosistem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rincipales fuentes de financiación externa para el cambio climático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7EA7-47E4-4B45-92BF-A950F95587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1052640"/>
          <a:ext cx="9144000" cy="5575320"/>
        </p:xfrm>
        <a:graphic>
          <a:graphicData uri="http://schemas.openxmlformats.org/drawingml/2006/table">
            <a:tbl>
              <a:tblPr/>
              <a:tblGrid>
                <a:gridCol w="3672000"/>
                <a:gridCol w="5472000"/>
              </a:tblGrid>
              <a:tr h="39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Cooperativo para el Carbono de los Bosques  (Forest Carbon Partnership Facility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 de estrategias REDD nacionales, transferencias financieras piloto basadas en reducciones de emisiones comprobadas de REDD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Cooperativo para el Carbon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mitigación a largo plazo y a partir de 2012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mundial para la eficiencia energética y las energías renovables 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relacionados con la eficiencia energética y las fuentes de energía renovab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11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anza Mundial contra el Cambio Climático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del cambio climático en estrategias nacionales de desarrollo y reducción de la pobrez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ptación, RRD, participación en REDD/MD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3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ara el logro de los ODM, ámbito temático de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o ambiente y cambio climático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de cuestiones ambientales en políticas nacionales y subnacionales, marcos de planificación e invers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canismo de Desarrollo Limpi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mitig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s voluntarios de carbon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mitig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Implicaciones de la integración por el lado de los ingres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381560" y="3336840"/>
            <a:ext cx="380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8"/>
          <p:cNvSpPr/>
          <p:nvPr/>
        </p:nvSpPr>
        <p:spPr>
          <a:xfrm>
            <a:off x="6804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84EA-EC30-43AC-AE1C-94E2579F89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traight Connector 12"/>
          <p:cNvSpPr/>
          <p:nvPr/>
        </p:nvSpPr>
        <p:spPr>
          <a:xfrm>
            <a:off x="533520" y="4327560"/>
            <a:ext cx="8076960" cy="0"/>
          </a:xfrm>
          <a:prstGeom prst="line">
            <a:avLst/>
          </a:prstGeom>
          <a:ln w="572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6875640" y="4437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gres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228600" y="3865680"/>
            <a:ext cx="533520" cy="459720"/>
          </a:xfrm>
          <a:prstGeom prst="rect">
            <a:avLst/>
          </a:prstGeom>
          <a:solidFill>
            <a:srgbClr val="a3a3e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28600" y="4327560"/>
            <a:ext cx="533520" cy="45972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2340000" y="2485080"/>
            <a:ext cx="2143080" cy="179892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mpuestos sobre las actividades económicas relativas a las medidas ambientales y de adaptación y mitigación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4643280" y="2822040"/>
            <a:ext cx="1914840" cy="137268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Subvenciones extranjeras y otras transferencias financieras relativas al medio ambiente y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6659640" y="3146040"/>
            <a:ext cx="1944720" cy="115956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Efectos del crecimiento derivados de una mayor competitivida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268360" y="4372920"/>
            <a:ext cx="2286000" cy="15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Menores impuestos sobre las actividades que se contraen o que no se desarrollan debido a las políticas medioambientales y/o de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826920" y="1683000"/>
            <a:ext cx="3733920" cy="52020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Reforma Fiscal Ambient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Pago por servicios medioambient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826920" y="2485080"/>
            <a:ext cx="1359000" cy="179892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mpuestos sobre el carbono/aplicados sobre actividades contaminantes y de altas emisio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ecanismos de mercado para la mitig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2133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canismos de mercado para la mitigación bajo el Protocolo de Kyoto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ecanismo de Desarrollo Limpio (MDL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lementación Conjunta (IC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icipación ínfima de la región ACP en el MDL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¿Futuro de los mecanismos en el período posterior a Kyoto?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robable continuidad del MDL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uevos mecanismos de mercado (NMM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rco para Varios Enfoques (MVE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tegración potencial de NAMAs y REDD+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B64-1C62-4DAE-8CB6-F128A97D8E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portunidades: Programas de Actividades del MD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agrupación en paquetes de proyectos de compensación de emisiones de carbono a pequeña escala en un único programa del MD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jemplo: Cocinas mejoradas para África Oriental (ICSEA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ganda, Kenia, Burundi, Rwand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duce 40.000 TCO</a:t>
            </a:r>
            <a:r>
              <a:rPr b="0" lang="en-GB" sz="2000" spc="-1" strike="noStrike" baseline="-25000">
                <a:solidFill>
                  <a:srgbClr val="0f5494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al añ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estaciones en mitigación, salud e igualdad de géner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utro desde el punto de vista tecnológic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foque de comercio jus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C4F7-3596-498F-BA8E-1EE5A62B79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ercado voluntario de carbon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915920"/>
            <a:ext cx="853416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ctualmente, los precios son más altos en el mercado voluntario que en el obligatori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iferentes opciones de certificación, por ejempl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8A71-3C00-42D9-9679-D012C3649F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4" descr="logo VCS.png"/>
          <p:cNvPicPr/>
          <p:nvPr/>
        </p:nvPicPr>
        <p:blipFill>
          <a:blip r:embed="rId1"/>
          <a:stretch/>
        </p:blipFill>
        <p:spPr>
          <a:xfrm>
            <a:off x="685800" y="3429000"/>
            <a:ext cx="2755800" cy="876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 socialcarbon.png"/>
          <p:cNvPicPr/>
          <p:nvPr/>
        </p:nvPicPr>
        <p:blipFill>
          <a:blip r:embed="rId2"/>
          <a:stretch/>
        </p:blipFill>
        <p:spPr>
          <a:xfrm>
            <a:off x="4495680" y="5029200"/>
            <a:ext cx="4102200" cy="711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logo gold standard.jpg"/>
          <p:cNvPicPr/>
          <p:nvPr/>
        </p:nvPicPr>
        <p:blipFill>
          <a:blip r:embed="rId3"/>
          <a:stretch/>
        </p:blipFill>
        <p:spPr>
          <a:xfrm>
            <a:off x="1066680" y="4495680"/>
            <a:ext cx="2113200" cy="2133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logo CCB standard.jpg"/>
          <p:cNvPicPr/>
          <p:nvPr/>
        </p:nvPicPr>
        <p:blipFill>
          <a:blip r:embed="rId4"/>
          <a:stretch/>
        </p:blipFill>
        <p:spPr>
          <a:xfrm>
            <a:off x="4267080" y="3276720"/>
            <a:ext cx="4572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ransacciones en el mercado voluntari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4C4F-6AE1-4F26-898E-F677197927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-7920" y="1219320"/>
            <a:ext cx="6942240" cy="56386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4932360" y="6550200"/>
            <a:ext cx="39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Tendencias forestales (2013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Fuentes de financiación externa para el medio ambiente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29A4-E356-43D4-B229-E0C6F25261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052640"/>
          <a:ext cx="9144000" cy="6121440"/>
        </p:xfrm>
        <a:graphic>
          <a:graphicData uri="http://schemas.openxmlformats.org/drawingml/2006/table">
            <a:tbl>
              <a:tblPr/>
              <a:tblGrid>
                <a:gridCol w="5299200"/>
                <a:gridCol w="3844800"/>
              </a:tblGrid>
              <a:tr h="39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ara el agua ACP-EU (finalizado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ministro de agua y saneamiento básic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canismos de combinación de la UE: Fondo Fiduciario UE-África para Infraestructuras  (ITF); Fondo de Inversión para la Política de Vecindad (FIF); Mecanismo de Inversión en América Latina (LAIF); Mecanismo de Inversión en Asia Central (IFCA); Mecanismo de Inversión en Asia (AIF), Mecanismo de Inversión en el Caribe; Mecanismo de Inversión en el Pacífico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raestructura medioambiental, por ejemplo, agua y saneamiento, energía renovable, transporte sosten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ara el Medio Ambiente Mundial (FMAM) (GEF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diversidad, cambio climático, aguas internacionales, degradación del suelo, la capa de ozono, CO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Multilateral para la Implementación del Protocolo de Montreal (MLF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s que se ajustan al Protocolo de Montreal sobre sustancias que agotan la capa de ozono, incluyendo la transformación industrial, la asistencia técnica, la formación y el desarrollo de capacida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uentes de financiación externa para el medio ambiente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18E4-110D-4E03-9941-27B039BB6A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8360" y="2637000"/>
          <a:ext cx="8153280" cy="3643200"/>
        </p:xfrm>
        <a:graphic>
          <a:graphicData uri="http://schemas.openxmlformats.org/drawingml/2006/table">
            <a:tbl>
              <a:tblPr/>
              <a:tblGrid>
                <a:gridCol w="4724280"/>
                <a:gridCol w="3429000"/>
              </a:tblGrid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de Implementación del Protocolo de Nagoy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s que se ajustan a Protocolo de Nagoya sobre el acceso a los recursos genéticos y el reparto justo y equitativo de las ventajas que se derivan de la explotación de los mismos (para la CBD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Nórdico de Desarrollo Ambiental (FNDA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rsiones de producción más limpia, eficiencia energética, inversiones medioambientales en explotaciones agrari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ros fondos fiduciarios medioambient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uentes de información sobre la financiación relativa al clim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ww.climatefundsupdate.or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ww.carbonfinance.or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2545-207C-4FE8-9DCE-51711147FD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poyo presupuestari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a transferencia de recursos financieros de un organismo financiero externo a la agencia tributaria nac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frece otros recursos para el presupuesto nac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ya sean subvenciones (por ejemplo, CE) o préstamos (por ejemplo, Banco Mundi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os procedimientos nacionales se aplican a la asignación y al desembolso de fon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lementación a través del sistema nacional de gestión pública financiera =&gt; menos costes de transacción, mayor apropi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E555-9B31-4634-8DA5-5D974E2264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oyo presupuestario y oportunidades de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1341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ndiciones generales de elegibilidad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BD02-FFF6-4A2D-BBFF-E63AC096BE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4"/>
          <p:cNvSpPr/>
          <p:nvPr/>
        </p:nvSpPr>
        <p:spPr>
          <a:xfrm>
            <a:off x="723960" y="2209680"/>
            <a:ext cx="6224400" cy="1143000"/>
          </a:xfrm>
          <a:prstGeom prst="roundRect">
            <a:avLst>
              <a:gd name="adj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istencia de una política/estrategia nacional o sectorial bien articulada en la que contribuirá la transferencia presupuestaria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5"/>
          <p:cNvSpPr/>
          <p:nvPr/>
        </p:nvSpPr>
        <p:spPr>
          <a:xfrm>
            <a:off x="762120" y="3505320"/>
            <a:ext cx="6186240" cy="838080"/>
          </a:xfrm>
          <a:prstGeom prst="roundRect">
            <a:avLst>
              <a:gd name="adj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Marco macroeconómico razonablemente estable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6"/>
          <p:cNvSpPr/>
          <p:nvPr/>
        </p:nvSpPr>
        <p:spPr>
          <a:xfrm>
            <a:off x="762120" y="4495680"/>
            <a:ext cx="6186240" cy="838440"/>
          </a:xfrm>
          <a:prstGeom prst="roundRect">
            <a:avLst>
              <a:gd name="adj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Gestión pública financiera fiable o mejorada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7"/>
          <p:cNvSpPr/>
          <p:nvPr/>
        </p:nvSpPr>
        <p:spPr>
          <a:xfrm>
            <a:off x="762120" y="5486400"/>
            <a:ext cx="6186240" cy="762120"/>
          </a:xfrm>
          <a:prstGeom prst="roundRect">
            <a:avLst>
              <a:gd name="adj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ransparencia y control del presupuesto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8"/>
          <p:cNvSpPr/>
          <p:nvPr/>
        </p:nvSpPr>
        <p:spPr>
          <a:xfrm>
            <a:off x="152280" y="2209680"/>
            <a:ext cx="419400" cy="1143000"/>
          </a:xfrm>
          <a:custGeom>
            <a:avLst/>
            <a:gdLst>
              <a:gd name="textAreaLeft" fmla="*/ 20160 w 419400"/>
              <a:gd name="textAreaRight" fmla="*/ 399240 w 419400"/>
              <a:gd name="textAreaTop" fmla="*/ 20160 h 1143000"/>
              <a:gd name="textAreaBottom" fmla="*/ 1122840 h 1143000"/>
            </a:gdLst>
            <a:ahLst/>
            <a:rect l="textAreaLeft" t="textAreaTop" r="textAreaRight" b="textAreaBottom"/>
            <a:pathLst>
              <a:path w="21600" h="58835">
                <a:moveTo>
                  <a:pt x="3600" y="0"/>
                </a:moveTo>
                <a:arcTo wR="3600" hR="3600" stAng="16200000" swAng="-5400000"/>
                <a:lnTo>
                  <a:pt x="0" y="55235"/>
                </a:lnTo>
                <a:arcTo wR="3600" hR="3600" stAng="10800000" swAng="-5400000"/>
                <a:lnTo>
                  <a:pt x="18000" y="588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9"/>
          <p:cNvSpPr/>
          <p:nvPr/>
        </p:nvSpPr>
        <p:spPr>
          <a:xfrm>
            <a:off x="152280" y="3505320"/>
            <a:ext cx="457200" cy="8380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838080"/>
              <a:gd name="textAreaBottom" fmla="*/ 815760 h 838080"/>
            </a:gdLst>
            <a:ahLst/>
            <a:rect l="textAreaLeft" t="textAreaTop" r="textAreaRight" b="textAreaBottom"/>
            <a:pathLst>
              <a:path w="21600" h="39580">
                <a:moveTo>
                  <a:pt x="3600" y="0"/>
                </a:moveTo>
                <a:arcTo wR="3600" hR="3600" stAng="16200000" swAng="-5400000"/>
                <a:lnTo>
                  <a:pt x="0" y="35980"/>
                </a:lnTo>
                <a:arcTo wR="3600" hR="3600" stAng="10800000" swAng="-5400000"/>
                <a:lnTo>
                  <a:pt x="18000" y="395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0"/>
          <p:cNvSpPr/>
          <p:nvPr/>
        </p:nvSpPr>
        <p:spPr>
          <a:xfrm>
            <a:off x="152280" y="4572000"/>
            <a:ext cx="457200" cy="7621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35994">
                <a:moveTo>
                  <a:pt x="3600" y="0"/>
                </a:moveTo>
                <a:arcTo wR="3600" hR="3600" stAng="16200000" swAng="-5400000"/>
                <a:lnTo>
                  <a:pt x="0" y="32394"/>
                </a:lnTo>
                <a:arcTo wR="3600" hR="3600" stAng="10800000" swAng="-5400000"/>
                <a:lnTo>
                  <a:pt x="18000" y="3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1"/>
          <p:cNvSpPr/>
          <p:nvPr/>
        </p:nvSpPr>
        <p:spPr>
          <a:xfrm>
            <a:off x="152280" y="5486400"/>
            <a:ext cx="457200" cy="7621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35994">
                <a:moveTo>
                  <a:pt x="3600" y="0"/>
                </a:moveTo>
                <a:arcTo wR="3600" hR="3600" stAng="16200000" swAng="-5400000"/>
                <a:lnTo>
                  <a:pt x="0" y="32394"/>
                </a:lnTo>
                <a:arcTo wR="3600" hR="3600" stAng="10800000" swAng="-5400000"/>
                <a:lnTo>
                  <a:pt x="18000" y="3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ular Callout 12"/>
          <p:cNvSpPr/>
          <p:nvPr/>
        </p:nvSpPr>
        <p:spPr>
          <a:xfrm>
            <a:off x="5791320" y="838080"/>
            <a:ext cx="3244680" cy="914400"/>
          </a:xfrm>
          <a:prstGeom prst="wedgeRoundRectCallout">
            <a:avLst>
              <a:gd name="adj1" fmla="val -79578"/>
              <a:gd name="adj2" fmla="val 136231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ostenible desde un punto de vista medioambiental y resiliente al clim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ular Callout 13"/>
          <p:cNvSpPr/>
          <p:nvPr/>
        </p:nvSpPr>
        <p:spPr>
          <a:xfrm>
            <a:off x="6781680" y="1828800"/>
            <a:ext cx="1600200" cy="685800"/>
          </a:xfrm>
          <a:prstGeom prst="wedgeRoundRectCallout">
            <a:avLst>
              <a:gd name="adj1" fmla="val -93180"/>
              <a:gd name="adj2" fmla="val 51574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o potencial de EA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ular Callout 14"/>
          <p:cNvSpPr/>
          <p:nvPr/>
        </p:nvSpPr>
        <p:spPr>
          <a:xfrm>
            <a:off x="6858000" y="4267080"/>
            <a:ext cx="1905120" cy="609840"/>
          </a:xfrm>
          <a:prstGeom prst="wedgeRoundRectCallout">
            <a:avLst>
              <a:gd name="adj1" fmla="val -79578"/>
              <a:gd name="adj2" fmla="val 136231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GP, RGPA, RIGP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poyo presupuestario y oportunidades de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9280" y="2349360"/>
            <a:ext cx="878544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lusión de indicadores clave y/o indicadores relativos al medio ambiente o al cambio climático para el desembolso d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3c8c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c8c93"/>
                </a:solidFill>
                <a:latin typeface="Verdana"/>
              </a:rPr>
              <a:t>tramo fijo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abonado al completo en la medida en que se mantengan las condiciones de elegibilidad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3c8c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c8c93"/>
                </a:solidFill>
                <a:latin typeface="Verdana"/>
              </a:rPr>
              <a:t>tramo variable 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abonado de forma total o parcial según el desempeño real con respecto a una serie acordada de criterios y objetivos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riterios/objetivos adoptados en principio del MED (PAF), asociados a la política o estrategia apoyad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rece un incentivo de desempeño orientado a los resultado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81F9-709C-49B4-9661-AE8C315382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Implicaciones de la integración por el  lado de los gast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305240" y="2895480"/>
            <a:ext cx="381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6DF3-F7A3-4200-B874-ABDE79505E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Straight Connector 12"/>
          <p:cNvSpPr/>
          <p:nvPr/>
        </p:nvSpPr>
        <p:spPr>
          <a:xfrm>
            <a:off x="457200" y="3886200"/>
            <a:ext cx="8077320" cy="0"/>
          </a:xfrm>
          <a:prstGeom prst="line">
            <a:avLst/>
          </a:prstGeom>
          <a:ln w="572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7093080" y="34923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Gasto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152280" y="3424320"/>
            <a:ext cx="533520" cy="45972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152280" y="3886200"/>
            <a:ext cx="533520" cy="459720"/>
          </a:xfrm>
          <a:prstGeom prst="rect">
            <a:avLst/>
          </a:prstGeom>
          <a:solidFill>
            <a:srgbClr val="a3a3e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762120" y="2298600"/>
            <a:ext cx="1865160" cy="155412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Subvenciones para actividades ecológicas y en relación con la adaptación y mitig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2743200" y="2053800"/>
            <a:ext cx="2044800" cy="179748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Gastos corrientes en relación con las medidas ambientales y de cambio climático (adaptación/mitigación)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18"/>
          <p:cNvSpPr/>
          <p:nvPr/>
        </p:nvSpPr>
        <p:spPr>
          <a:xfrm>
            <a:off x="4932360" y="2053080"/>
            <a:ext cx="2087640" cy="179892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nversión pública (gastos de capital) en infraestructuras relativas al medio ambiente y/o al cambio climático (adaptación/mitigación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755640" y="3943440"/>
            <a:ext cx="1871640" cy="204084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Menores subvenciones en relación con el consumo de combustible y otras actividades de altas emision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4932360" y="3942720"/>
            <a:ext cx="2087640" cy="201204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Menor gasto en asistencia sanitaria, cambio de infraestructuras, etc., como resultado de una adaptación satisfactoria y la adopción de medidas medioambient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2771640" y="3940920"/>
            <a:ext cx="1981440" cy="158580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Eliminación de subvenciones "dañinas" que fomentan actividades perjudiciales para el medio ambient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dicadores de evaluación del desempeño sobre el cambio climático en Butá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 conformidad con la AMCC, se integró un Plan de Acción de Adaptación al Cambio Climático - Recursos Naturales Renovables en el Plan 11 de 5 años (2013-2018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s actividades incluyen un ejercicio presupuestario para las acciones de adaptación al cambio climátic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s condiciones para la liberación del tramo variable incluyen una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sposición de adaptación al cambio climático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del sistema de evaluación y monitoreo del sector de RNR y una mejora de los sistemas estadísticos de RNR para favorecer la recopilación fiable de datos relativos al clim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ndos medioambientales y climáticos naciona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79280" y="198864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Varios países han establecido un 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ndo climático nacional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y/o un 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ndo fiduciario ambiental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ara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nalizar y gestionar la financiación externa relativa al cambio climático y al medio ambien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rovechar los fondos y las iniciativas existentes (incl. los financiados con recursos nacional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oyar la integración en estrategias nacionales de desarroll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eneficios previsto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monización de financiación externa con prioridades nacion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sarrollo de capacidades e instituciones nacion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mpliación de la respuesta ante los retos medioambientales y climátic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B87E-D5F3-47FB-A7F2-5B4F342B8C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asar a la ac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2205000"/>
            <a:ext cx="79246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mover la integración a través de procesos presupuestarios nacion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Utilizar el apoyo presupuestario (CE) para impulsar la integrac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834E-FF04-4209-8300-231DD20661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4"/>
          <p:cNvSpPr/>
          <p:nvPr/>
        </p:nvSpPr>
        <p:spPr>
          <a:xfrm>
            <a:off x="1332000" y="4343400"/>
            <a:ext cx="6119640" cy="18223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¿Qué puede hacerse y cuáles son las necesidades institucionales y de capacidades en su país/sector de responsabilidad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72bfc5"/>
                </a:solidFill>
                <a:latin typeface="Verdana"/>
              </a:rPr>
              <a:t>Recapitulación - Mensajes cla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4000" y="1341360"/>
            <a:ext cx="85341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s políticas relativas al medio ambiente y al clima pueden incidir en el presupuesto nacional de muchas manera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ay puntos de partida para integrar el cambio climático y el medio ambiente en prácticamente todas las fases del proceso presupuestario, incluyendo en la fase de evaluación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ex post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RGP, RGPA y RIGPC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e recomienda establecer sistemas para realizar un seguimiento de los gastos relativos al medio ambiente y a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isten muchas fuentes de financiación para apoyar las iniciativas relativas al medio ambiente y al cambio climático – centrarse en la elegibilidad y los objetiv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uando se cumplen las condiciones, el apoyo presupuestario constituye una buena forma de respaldar los esfuerzos de integración de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4BD0-033E-42B3-92ED-91994AB44E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Bibliografía cla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4920" y="184428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etkova N. (2009) Integrating Public Environmental Expenditure within Multi-year Budgetary Frameworks. </a:t>
            </a:r>
            <a:br>
              <a:rPr sz="2000"/>
            </a:b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ocumento de Trabajo sobre el Medio Ambiente de la OCDE nº 7 Ediciones OCDE, París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ágina web de Carbon Finance del Banco Mundial: www.carbonfinance.or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Funds Update: </a:t>
            </a:r>
            <a:r>
              <a:rPr b="0" lang="en-GB" sz="2000" spc="-1" strike="noStrike" u="sng">
                <a:solidFill>
                  <a:srgbClr val="0f5494"/>
                </a:solidFill>
                <a:uFillTx/>
                <a:latin typeface="Verdana"/>
              </a:rPr>
              <a:t>http://www.climatefundsupdate.org/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rkandya, A; Hamilton, K and Sanchez-Triana, E (2006) Getting the Most for the Money – How Public Environmental Expenditure Reviews Can Help. Notas sobre la Estrategia Medioambiental del Banco Mundial Nº 16, septiembre de 2006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visión Institucional y del Gasto Público Climático  http://www.aideffectiveness.org/CPEI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BCF4-7161-4BC6-A5D4-F8380F532E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72bfc5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672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ágina web de Carbon Finance del Banco Mundial: www.carbonfinance.org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limate Funds Update: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www.climatefundsupdate.org/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orest Trends (2013) Maneuvering the Mosaic, State of the Voluntary Carbon Markets 2013. Ecosystem Marketplace &amp; Bloomberg New Energy Finance: Washington y New York.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CDE (2009a) Integración de la Adaptación en la Cooperación para el Desarrollo: Guía sobre políticas. Ediciones OCDE, París. [Sólo lectura, edición navegable] Disponible en: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browse.oecdbookshop.org/oecd/pdfs/browseit/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-DAC (2011) Handbook on the OECD-DAC Climate Markers. Organización para la Cooperación y el Desarrollo Económico, París. Disponible en: 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56/18/48785310.pdf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. Disponible en: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www.unpei.org/knowledge-resources/publications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6C8F-6D96-4789-9D19-93D932D214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72bfc5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4920" y="155736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Norrington-Davies, G and Thornton, N (2011) Climate change financing and aid effectiveness, Kenya case study. OECD, ADB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wanson, A and Lundethors, L (2003) Public Environmental Expenditure Reviews (PEERS), Experience and Emerging Practice. Documentos de Estrategia Medioambiental del Banco Mundial Nº 7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anco Mundial (n.d.) Mainstreaming Adaptation to Climate Change in Agriculture and Natural Resources Management Projects. Banco Mundial, Washington, DC. Nota de Orientación nº4 – Developing Readiness for Institutional Capacity Development and an Enabling Policy Framework. [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On-lin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] Disponible en: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climatechange.worldbank.org/climatechange/content/mainstreaming-adaptation-climate-change-agriculture-and-natural-resources-management-project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CB07-7424-4EFA-A132-4A0250EEC0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Vinculación del presupuesto a los objetivos de las políticas y a los resultados esperado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9D55-36F8-4565-92DC-F64E3EB44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763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Vinculación del gasto a las políticas y a los resultados, con un enfoque a medio plazo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76"/>
          <p:cNvSpPr/>
          <p:nvPr/>
        </p:nvSpPr>
        <p:spPr>
          <a:xfrm>
            <a:off x="2552760" y="1673280"/>
            <a:ext cx="4038480" cy="383400"/>
          </a:xfrm>
          <a:prstGeom prst="rect">
            <a:avLst/>
          </a:prstGeom>
          <a:solidFill>
            <a:srgbClr val="f0f8f9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bjetivos y estrategias nacional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77"/>
          <p:cNvSpPr/>
          <p:nvPr/>
        </p:nvSpPr>
        <p:spPr>
          <a:xfrm>
            <a:off x="5019840" y="2751120"/>
            <a:ext cx="3743280" cy="672840"/>
          </a:xfrm>
          <a:prstGeom prst="rect">
            <a:avLst/>
          </a:prstGeom>
          <a:solidFill>
            <a:srgbClr val="92d050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rco de gastos o perspectiva presupuestaria a medio plazo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78"/>
          <p:cNvSpPr/>
          <p:nvPr/>
        </p:nvSpPr>
        <p:spPr>
          <a:xfrm>
            <a:off x="371520" y="2751120"/>
            <a:ext cx="3743280" cy="672840"/>
          </a:xfrm>
          <a:prstGeom prst="rect">
            <a:avLst/>
          </a:prstGeom>
          <a:solidFill>
            <a:srgbClr val="92d050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Planes sectoriales a medio plazo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TextBox 79"/>
          <p:cNvSpPr/>
          <p:nvPr/>
        </p:nvSpPr>
        <p:spPr>
          <a:xfrm>
            <a:off x="2552760" y="4038480"/>
            <a:ext cx="4038480" cy="383400"/>
          </a:xfrm>
          <a:prstGeom prst="rect">
            <a:avLst/>
          </a:prstGeom>
          <a:solidFill>
            <a:srgbClr val="00b050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Presupuesto anual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TextBox 80"/>
          <p:cNvSpPr/>
          <p:nvPr/>
        </p:nvSpPr>
        <p:spPr>
          <a:xfrm>
            <a:off x="1979640" y="4653000"/>
            <a:ext cx="5184720" cy="383400"/>
          </a:xfrm>
          <a:prstGeom prst="rect">
            <a:avLst/>
          </a:prstGeom>
          <a:solidFill>
            <a:srgbClr val="f0f8f9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Implementación y prestación de servicio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TextBox 81"/>
          <p:cNvSpPr/>
          <p:nvPr/>
        </p:nvSpPr>
        <p:spPr>
          <a:xfrm>
            <a:off x="1979640" y="5562720"/>
            <a:ext cx="5184720" cy="383400"/>
          </a:xfrm>
          <a:prstGeom prst="rect">
            <a:avLst/>
          </a:prstGeom>
          <a:solidFill>
            <a:srgbClr val="f0f8f9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nitoreo del desempeño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4" name="Shape 83"/>
          <p:cNvCxnSpPr>
            <a:stCxn id="128" idx="1"/>
            <a:endCxn id="130" idx="0"/>
          </p:cNvCxnSpPr>
          <p:nvPr/>
        </p:nvCxnSpPr>
        <p:spPr>
          <a:xfrm flipV="1" rot="10800000">
            <a:off x="2242440" y="2010240"/>
            <a:ext cx="310320" cy="740520"/>
          </a:xfrm>
          <a:prstGeom prst="bentConnector2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35" name="Shape 89"/>
          <p:cNvCxnSpPr>
            <a:stCxn id="128" idx="3"/>
            <a:endCxn id="129" idx="0"/>
          </p:cNvCxnSpPr>
          <p:nvPr/>
        </p:nvCxnSpPr>
        <p:spPr>
          <a:xfrm>
            <a:off x="6591240" y="2010960"/>
            <a:ext cx="300600" cy="740520"/>
          </a:xfrm>
          <a:prstGeom prst="bentConnector2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36" name="Straight Arrow Connector 93"/>
          <p:cNvCxnSpPr>
            <a:stCxn id="130" idx="3"/>
            <a:endCxn id="129" idx="1"/>
          </p:cNvCxnSpPr>
          <p:nvPr/>
        </p:nvCxnSpPr>
        <p:spPr>
          <a:xfrm flipV="1">
            <a:off x="4114800" y="3233520"/>
            <a:ext cx="905760" cy="2160"/>
          </a:xfrm>
          <a:prstGeom prst="straightConnector1">
            <a:avLst/>
          </a:prstGeom>
          <a:ln w="28440">
            <a:solidFill>
              <a:srgbClr val="0f549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7" name="Shape 95"/>
          <p:cNvCxnSpPr>
            <a:stCxn id="130" idx="2"/>
            <a:endCxn id="131" idx="1"/>
          </p:cNvCxnSpPr>
          <p:nvPr/>
        </p:nvCxnSpPr>
        <p:spPr>
          <a:xfrm flipH="1" rot="16200000">
            <a:off x="2143080" y="3820680"/>
            <a:ext cx="510480" cy="310320"/>
          </a:xfrm>
          <a:prstGeom prst="bentConnector2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38" name="Shape 97"/>
          <p:cNvCxnSpPr>
            <a:stCxn id="129" idx="2"/>
            <a:endCxn id="131" idx="3"/>
          </p:cNvCxnSpPr>
          <p:nvPr/>
        </p:nvCxnSpPr>
        <p:spPr>
          <a:xfrm rot="5400000">
            <a:off x="6483960" y="3823200"/>
            <a:ext cx="515160" cy="300600"/>
          </a:xfrm>
          <a:prstGeom prst="bentConnector2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39" name="Straight Arrow Connector 99"/>
          <p:cNvCxnSpPr>
            <a:stCxn id="131" idx="2"/>
          </p:cNvCxnSpPr>
          <p:nvPr/>
        </p:nvCxnSpPr>
        <p:spPr>
          <a:xfrm>
            <a:off x="4571640" y="4422600"/>
            <a:ext cx="1080" cy="23112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40" name="Straight Arrow Connector 101"/>
          <p:cNvCxnSpPr>
            <a:stCxn id="132" idx="2"/>
            <a:endCxn id="133" idx="0"/>
          </p:cNvCxnSpPr>
          <p:nvPr/>
        </p:nvCxnSpPr>
        <p:spPr>
          <a:xfrm>
            <a:off x="4571640" y="5330880"/>
            <a:ext cx="1080" cy="23256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sp>
        <p:nvSpPr>
          <p:cNvPr id="141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9956-DC07-448D-BB51-07F4E1AA3C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l marco de gastos a medio plazo (MGMP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2204640"/>
            <a:ext cx="8534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na herramienta de planificación presupuestaria orientada al futuro que cubre un periodo de entre 3 y 5 añ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Vincula sistemáticamente objetivos estratégicos (nacionales/sectoriales) y resultados/productos con las acciones necesarias para conseguirlos, así como con los recursos y gastos correspondient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poya el establecimiento de prioridades con respecto a los gastos y la previsibilidad de recurs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acilita el monitoreo del desempeñ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uede establecerse tanto a nivel nacional (asignaciones intersectoriales) como a nivel sectorial (asignaciones intrasectorial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623-9517-4617-8863-62EC9B018F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 la práctic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206064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os MGMP son herramientas sofisticadas. Hay pocos países que cuenten con un MGMPs complet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a elaboración de previsiones a medio plazo de gastos nacionales y/o sectoriales constituye un buen punto de partid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 han de reconocer las incertidumbres asociadas a las previsiones y los pronóstic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6D81-418E-4FE0-992D-E30B40187B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1692360" y="5373720"/>
            <a:ext cx="5410080" cy="99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¿Qué prácticas se siguen en sus respectivos países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Puntos de partida para la integración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medioambiental y de cambio climátic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4C92-705D-4E53-B3CE-E48E0CCE9E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5-25T14:24:08Z</dcterms:modified>
  <cp:revision>118</cp:revision>
  <dc:subject/>
  <dc:title>Slide 1</dc:title>
</cp:coreProperties>
</file>